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E0C7-07BA-4D14-BE56-259AF6BF8A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4DD3-0756-45DD-828F-853C0C8A759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B308-352D-440E-97F4-0BD7CB4691F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FA549-08F6-44DD-868A-54B60834E354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igual que los carbohidratos, los lípidos se componen de carbono, hidrógeno y oxígeno, la diferencia radica en que la cantidad de hidrógeno es superior a la cantidad de átomos de oxígeno, confiriendo a estos compuestos propiedades químicas distintas. Los lípidos o grasas son insolubles en agua y constituyen una fuente de energía muy eficiente, ya que proporciona el doble de la energía de los carbohidratos y las proteínas. La importancia biológica de los lípidos radica en ser compuestos que sirven para regular la temperatura corporal y que funcionan como reserva energé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animales sólo pueden almacenar pequeñas cantidades de carbohidratos, por eso, los que no se pueden almacenar en el hígado en forma de glucógeno, se transforman en grasas y se almacenan en el tejido adiposo. El tejido adiposo actúa como una capa aislante térmica y como sustancia de reserva energética muy importante en todos los animales y el homb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lípidos se clasifican en dos grup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36A25-DA28-4C03-903D-920AD5AE7642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7BB-C4F6-4056-AFCE-0A8B8770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633-F94D-4250-AACC-949D0A2F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64B36-33E5-4011-A794-DF1CC35B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01703-A3DF-4680-AC8F-AED7A672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A6A2E-1942-47D4-8A4A-41234A0A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783DA-A773-4844-A5B7-584F4898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20A35-6462-4CBC-BD3B-9966EC51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840C3-FD98-46D6-AD05-8408378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90A74-BFA1-4A1C-941A-624E71F8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F6DBA-B812-4171-A5B5-349C514C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ACF6A-A1D5-4CC8-B055-D0E7EC62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8DEE1-41C1-45D4-9379-493C0D23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B21-2EF0-47D7-BFAA-98BCD2BB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02027-E292-49A0-9CB8-5DC3B202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21081-7904-46C5-BCB1-E978A949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A8CA1-9D72-49C7-ACD9-334BCE58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20B0F-DA87-45F8-8C00-CE60CA0C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64587-FE42-48C5-9A24-26BBDAC8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7102F-5210-4F76-9D74-4774E68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8A95D-448A-4141-9A2F-EF3BC05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33D62-09D4-42D6-ABBC-67FDC664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34AAD-A55C-47E2-812B-C89E2F6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97F4F-03F1-4EEA-B2F1-AF2AA704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5D5-B004-4756-AFC4-024CAFBD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666B4-0382-4E6C-9AD4-60BEF3C3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E39A-3139-4855-ABA2-01BCB479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EC33-053A-4EEB-A0C1-CBE11EAC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AECF1-A4A3-40AF-8259-84328E76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D0280-726C-4659-A071-52423388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9564-5165-427B-983E-783A504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DF551-58FD-4669-AB80-1C944E6A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EF8A4-A667-4444-AD7C-C8FC1B3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9C529-CEF3-4EA5-AE64-408FC6C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B9131-6351-486B-9719-C223E18E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8EB1-38D9-4913-905A-FB1AB125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21FE2-AA25-4BD5-9C23-E4FEE7D8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D0E6C-A9D8-4DF6-9993-DEEC0A83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10EE0-D111-4D56-BC50-B5B9B24E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5E36-B7EA-4403-B5D1-9375317A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82F54-0A4B-41DB-B9F3-60C684C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56088-64BB-4972-9ABA-AEE825E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95D8A-86E2-4AC0-9614-B8F120CB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22D43-2F08-47DF-B3A5-C82D942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BF1EE-0DB4-4D54-913C-DFB1DD2A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FEE2F-0F1D-4674-A786-D649B8D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700-3DD1-4EDA-A37B-007DAFBB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0246B-1364-4DA6-BE35-8481907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2F5B4-60AC-49B5-9D38-C27CAFF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A9288-159C-4366-8B87-EFBC326D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88459-C83E-4B74-BD12-71A4CA36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71D1D-90BF-4E7A-9DDC-A21DC27A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982BF-B385-47A8-A8AA-C46C2158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60316-6B31-42FA-9796-8AC36852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09C85-7FDD-473B-A0B7-47107DA8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F2D19-4F39-4699-AD23-70E1E6E8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7DEEB-F5B9-414A-B633-6DBCB12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776C-5AD1-4907-AF27-DB8BD094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28BEF-602C-455F-AC30-007710CF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D4B46-9E2A-47B6-84A9-69CEE69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DEA06-B083-4BC6-B61D-A30A6573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5A43E-84BB-48E0-A39B-74E914DE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4F0A2-8C3A-4AB8-9C15-82274D23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A6CBC-9380-4F53-835A-76A86184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D2DC0-DF35-43B5-8695-3631E923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C3EB-9295-4BC3-8C02-DB2E4DB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BBC9-A56A-461F-9E68-6FA77A41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5D85-E0D7-424E-AFF0-B8E27F40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547A-B358-4909-901D-52540F61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593-5AFD-447B-B43C-5593F08C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94A6-6B4D-4732-A3A5-5887B89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BDE1-D505-4A23-987E-C6AA842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CFC0-D770-4598-9CCC-934740B2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F256-4BED-4E45-90F3-F6647FDC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E15D-B2BB-499D-B6E7-9CFE0614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4B80-0662-4706-B559-D23A5A59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2B4B-ABF9-424A-BFAC-DDE75AC1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E066-1EE2-4270-9902-C41374E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F080-63A2-44FA-83A2-92D54DF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8AFC-4DC0-47B6-8888-08105A1C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9CB-04F6-4739-90C9-08642C3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E284-39C4-4B7A-91AD-6D6F0C8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F28F-F0F2-4850-82FD-AD61DD7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F5C8-03E8-4927-BA7A-9FDF142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8F6A-20D4-474B-975A-6E52F3D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93EA-337C-4D44-BC91-BE1F224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A83E-46F4-4E23-A692-EC8197B2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C2F7-0760-4CF6-BDEE-A23A2A62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D4EB-61A8-4AA8-8DCE-E563A735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962F-7D2F-4EAA-AAD8-48E2526A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1C0D-5EDC-48D7-A9B1-46323457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17E-5542-4A36-A6B1-6C21005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8AC1E-AC77-4DA0-884B-F9F74DB5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834E-3064-4B39-8BC8-EE2FB56C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9772-8593-4550-873C-5E009E70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9820-9929-4C84-AEF5-E40F12A4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4264-5D2F-4FDE-B189-04BE3E81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A5E7-5FFC-465F-9093-3900609D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2B2B-5401-4605-AFD4-D70C02D3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9890-35A9-476A-A035-B90D7C98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F745-B522-4610-90C9-E24705E4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5D6C-F673-41FD-AEAD-325A35C4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BBC-F2B6-4079-B6E1-4C86595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EADFD-16C1-42F0-A7F9-08AA0DD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41EC7-7DA9-47B3-9099-B5A1CE0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1F87-D34E-4D94-84D5-FAF13AF8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DCD1-F097-40B2-99FF-694D510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0240-ABCC-487D-9C0F-5CCDCB5C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2145-8385-4EA9-B32F-19B3094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5597-A668-4019-8DFC-2021F1C6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396A6-42D4-4851-AFF6-AC80340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05EE-A971-4CB5-9846-FAB02035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FA4D-F477-436A-9CC7-8F535299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A26-BCA6-42D1-8298-51A2FFD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2815-B091-4217-9C90-ABCBE017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9C943-BE62-463B-AB98-481EC3D0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A047-BB0C-445F-9528-13DC8231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D4C2-87F1-4A32-A47C-C326A252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BF4D-B89F-43A6-A32C-D6061880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D6EA2-6369-4F2D-A26B-F8CBD241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3DAF1-DC3A-47DC-9178-21103532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D87F-7068-4FCE-B4BF-4C50496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50023-2897-478D-9A03-AE9BBA66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82485-F98B-44A8-8A08-2AC6B8FC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DFF-9068-49AD-8ECE-513EDFC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0C01D-6D85-41DB-83EB-C33A9A1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EE18-827E-4835-803A-0B40B2E5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2446-55BA-4384-8A51-AC37B1C7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303F-25C3-4290-97CA-808D3B61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29A31-58C9-4942-88EC-20CA93F0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C09C6-2FF0-426E-B740-F8C6238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0DC6-85BC-4B36-AFBF-A877EA03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E8B6-464E-419A-BD60-F7D0C340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DB95-8BAA-4547-B048-9CDC6ADD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2F49B-3B91-4435-BFB1-8DFBCA73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77F-77B5-49EA-B776-D04F46A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E3F1C-D6D2-40BC-8997-0FF4199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55E4-CD8C-48C1-88E9-144296B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60C60-D3AA-492B-B1C5-83DBFD1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FF1FC-D759-4A43-9F84-2DCC117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9E2B-8046-497D-9E7C-ABEDE3A7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9B1CF-9399-456A-8D4C-F76B3BF1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B5EE-18D5-4627-B8E8-B870027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8F120-3C70-4DE5-B8C6-95806C92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E7245-0BC1-4EE4-AC15-58537D86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84EC9-5FB9-45F8-9A33-C3E4A7B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DD4-1FAD-415A-A5F0-BDDC799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70A72-4B51-4260-8712-FCF7A56F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91798-745B-4C55-9619-4882A2CA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35890-D535-40AF-8D73-D35B8F5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4978-70FD-4224-9215-066BC56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F562-BCCD-403D-9FE5-95DA3FC6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0A1C-0D6E-40DE-8F13-36700FD4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F42F0-611B-4BF6-A0CC-0F1F7AE1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73934-4B44-47C8-A407-6925B0BB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C44EF-D4F0-4D7A-8D15-EC35F63C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63F92-DCB9-4B37-8D6F-6BC0B466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BB29-CC99-410B-B78B-F18E4B038EE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883B-E123-4E93-B358-628D6D58E0A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160B-14E1-4597-AC95-D6C211B513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77ED-B267-4725-84D9-1230DEFB66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D0B9-805E-4239-AB67-E8569F803E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F723-57DD-4A2E-8C0D-89393FECB2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3E90-D8B1-4F8B-89D5-0ECD65658E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FF1-6A52-475A-AAB3-A81C6A43CB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7AAB-A6DB-4069-8A6D-1C20BE86A6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78FE-023C-4136-8C46-2100E11745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B061-CD12-4766-BE12-389C8ED559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5947-FFE8-4A89-B347-D1E0A5EF105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D57C-83F0-4222-A587-7928FAA7D1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482760" y="1152360"/>
            <a:ext cx="82296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IA y LCyTA)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Macronutrientes. Lípidos. Digestión y absorción. Rol como nutrientes. Resíntesis intestinal de triglicéridos. Metabolismo de lípidos.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Transporte de lípidos. Rol de las lipoproteínas. Composición química y funciones. Oxidación de ácidos grasos saturados. Carnitina. Activación, beta oxidación, distintas etapas. Oxidación de los ácidos grasos insaturados y con numero impar de átomos de carbono. Balance energético. Formación de cuerpos cetónicos. Oxidación peroxisómica de ácidos grasos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Lic. en Biol. Molec.)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LIPIDOS. Digestión y absorción de lípidos.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METABOLISMO DE LIPIDOS: Transporte de lípidos en el sistema circulatorio. Lipoproteínas. Composición. Apolipoproteínas. Metabolismo de los quilomicrones, de las lipoproteínas de muy baja densidad (VLDL) y de baja densidad (LDL). Lipoproteína (a) y riesgo de ateroesclerosis. Metabolismo de las lipoproteínas de alta densidad (HDL). Degradación metabólica de los lípidos: hidrólisis de los triglicéridos por lipasas dependiente de AMPc. OXIDACION DE ACIDOS GRASOS: saturados e insaturados de número par de átomos de carbono (beta-oxidación). Regulación de la utilización de sustrato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       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Esquema General de la Digestión Lipíd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Cuadro de texto 5"/>
          <p:cNvSpPr/>
          <p:nvPr/>
        </p:nvSpPr>
        <p:spPr>
          <a:xfrm>
            <a:off x="539640" y="1214280"/>
            <a:ext cx="784872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590" name="Group 3"/>
          <p:cNvGrpSpPr/>
          <p:nvPr/>
        </p:nvGrpSpPr>
        <p:grpSpPr>
          <a:xfrm>
            <a:off x="2843280" y="1792440"/>
            <a:ext cx="6265080" cy="368280"/>
            <a:chOff x="2843280" y="1792440"/>
            <a:chExt cx="6265080" cy="368280"/>
          </a:xfrm>
        </p:grpSpPr>
        <p:sp>
          <p:nvSpPr>
            <p:cNvPr id="591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Text Box 5"/>
            <p:cNvSpPr/>
            <p:nvPr/>
          </p:nvSpPr>
          <p:spPr>
            <a:xfrm>
              <a:off x="5625000" y="1792440"/>
              <a:ext cx="34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salival (muy poca actividad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Group 6"/>
          <p:cNvGrpSpPr/>
          <p:nvPr/>
        </p:nvGrpSpPr>
        <p:grpSpPr>
          <a:xfrm>
            <a:off x="3132000" y="4340160"/>
            <a:ext cx="5034960" cy="2136600"/>
            <a:chOff x="3132000" y="4340160"/>
            <a:chExt cx="5034960" cy="2136600"/>
          </a:xfrm>
        </p:grpSpPr>
        <p:sp>
          <p:nvSpPr>
            <p:cNvPr id="594" name="Line 7"/>
            <p:cNvSpPr/>
            <p:nvPr/>
          </p:nvSpPr>
          <p:spPr>
            <a:xfrm>
              <a:off x="3132000" y="4508640"/>
              <a:ext cx="255384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Text Box 8"/>
            <p:cNvSpPr/>
            <p:nvPr/>
          </p:nvSpPr>
          <p:spPr>
            <a:xfrm>
              <a:off x="5766120" y="4340160"/>
              <a:ext cx="240084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Calibri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 </a:t>
              </a:r>
              <a:r>
                <a:rPr b="1" i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rmonas (Secretina,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olecistoquinina )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i="1" lang="es-ES" sz="18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Sales biliar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pancreátic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Estear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Fosfolip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Fosfat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6" name="Group 9"/>
          <p:cNvGrpSpPr/>
          <p:nvPr/>
        </p:nvGrpSpPr>
        <p:grpSpPr>
          <a:xfrm>
            <a:off x="3564000" y="3521160"/>
            <a:ext cx="4980240" cy="368280"/>
            <a:chOff x="3564000" y="3521160"/>
            <a:chExt cx="4980240" cy="368280"/>
          </a:xfrm>
        </p:grpSpPr>
        <p:sp>
          <p:nvSpPr>
            <p:cNvPr id="597" name="Line 10"/>
            <p:cNvSpPr/>
            <p:nvPr/>
          </p:nvSpPr>
          <p:spPr>
            <a:xfrm flipV="1">
              <a:off x="3564000" y="3743280"/>
              <a:ext cx="1865160" cy="460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Text Box 11"/>
            <p:cNvSpPr/>
            <p:nvPr/>
          </p:nvSpPr>
          <p:spPr>
            <a:xfrm>
              <a:off x="5436000" y="3521160"/>
              <a:ext cx="310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gástrica (10-30 % de TG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13 CuadroTexto"/>
          <p:cNvSpPr/>
          <p:nvPr/>
        </p:nvSpPr>
        <p:spPr>
          <a:xfrm>
            <a:off x="1945080" y="214200"/>
            <a:ext cx="55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  <a:ea typeface="Arial"/>
              </a:rPr>
              <a:t>Digestión y Absorción de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 Rounded MT Bold"/>
              </a:rPr>
              <a:t>Función de las sales b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8435880" cy="538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603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 Rounded MT Bold"/>
              </a:rPr>
              <a:t>Enzimas Digestiv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23640" y="1285920"/>
            <a:ext cx="85690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600" spc="-1" strike="noStrike" u="sng">
                <a:solidFill>
                  <a:srgbClr val="0033cc"/>
                </a:solidFill>
                <a:uFillTx/>
                <a:latin typeface="Arial Rounded MT Bold"/>
              </a:rPr>
              <a:t> lipasa</a:t>
            </a:r>
            <a:r>
              <a:rPr b="0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 : </a:t>
            </a:r>
            <a:r>
              <a:rPr b="1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600" spc="-1" strike="noStrike" u="sng" baseline="-25000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600" spc="-1" strike="noStrike">
                <a:solidFill>
                  <a:srgbClr val="00cc00"/>
                </a:solidFill>
                <a:latin typeface="Arial Rounded MT Bold"/>
                <a:ea typeface="Arial"/>
              </a:rPr>
              <a:t>: Actúa sobre el C 2 de fosfolípi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b0f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600" spc="-1" strike="noStrike">
                <a:solidFill>
                  <a:srgbClr val="00b0f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ángulo 109"/>
          <p:cNvSpPr/>
          <p:nvPr/>
        </p:nvSpPr>
        <p:spPr>
          <a:xfrm rot="16200000">
            <a:off x="7661880" y="33195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upo 136"/>
          <p:cNvGrpSpPr/>
          <p:nvPr/>
        </p:nvGrpSpPr>
        <p:grpSpPr>
          <a:xfrm>
            <a:off x="7020000" y="1928880"/>
            <a:ext cx="2116440" cy="799200"/>
            <a:chOff x="7020000" y="1928880"/>
            <a:chExt cx="2116440" cy="799200"/>
          </a:xfrm>
        </p:grpSpPr>
        <p:grpSp>
          <p:nvGrpSpPr>
            <p:cNvPr id="623" name="Grupo 135"/>
            <p:cNvGrpSpPr/>
            <p:nvPr/>
          </p:nvGrpSpPr>
          <p:grpSpPr>
            <a:xfrm>
              <a:off x="7020000" y="1928880"/>
              <a:ext cx="2116440" cy="799200"/>
              <a:chOff x="7020000" y="1928880"/>
              <a:chExt cx="2116440" cy="799200"/>
            </a:xfrm>
          </p:grpSpPr>
          <p:grpSp>
            <p:nvGrpSpPr>
              <p:cNvPr id="624" name="Grupo 134"/>
              <p:cNvGrpSpPr/>
              <p:nvPr/>
            </p:nvGrpSpPr>
            <p:grpSpPr>
              <a:xfrm>
                <a:off x="7020000" y="1928880"/>
                <a:ext cx="1701720" cy="795960"/>
                <a:chOff x="7020000" y="1928880"/>
                <a:chExt cx="1701720" cy="795960"/>
              </a:xfrm>
            </p:grpSpPr>
            <p:sp>
              <p:nvSpPr>
                <p:cNvPr id="625" name="Rectángulo 56"/>
                <p:cNvSpPr/>
                <p:nvPr/>
              </p:nvSpPr>
              <p:spPr>
                <a:xfrm>
                  <a:off x="7020000" y="23637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75"/>
                <p:cNvSpPr/>
                <p:nvPr/>
              </p:nvSpPr>
              <p:spPr>
                <a:xfrm>
                  <a:off x="7542000" y="23572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76"/>
                <p:cNvSpPr/>
                <p:nvPr/>
              </p:nvSpPr>
              <p:spPr>
                <a:xfrm>
                  <a:off x="7853400" y="23540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Rectángulo 81"/>
                <p:cNvSpPr/>
                <p:nvPr/>
              </p:nvSpPr>
              <p:spPr>
                <a:xfrm>
                  <a:off x="7524720" y="19288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9" name="Línea 77"/>
                <p:cNvSpPr/>
                <p:nvPr/>
              </p:nvSpPr>
              <p:spPr>
                <a:xfrm>
                  <a:off x="7835760" y="24987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0" name="Línea 78"/>
                <p:cNvSpPr/>
                <p:nvPr/>
              </p:nvSpPr>
              <p:spPr>
                <a:xfrm>
                  <a:off x="7424640" y="24908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Línea 79"/>
                <p:cNvSpPr/>
                <p:nvPr/>
              </p:nvSpPr>
              <p:spPr>
                <a:xfrm>
                  <a:off x="7667640" y="22478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Línea 80"/>
                <p:cNvSpPr/>
                <p:nvPr/>
              </p:nvSpPr>
              <p:spPr>
                <a:xfrm>
                  <a:off x="7723080" y="22464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3" name="Rectángulo 83"/>
              <p:cNvSpPr/>
              <p:nvPr/>
            </p:nvSpPr>
            <p:spPr>
              <a:xfrm>
                <a:off x="8597520" y="235728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Línea 82"/>
            <p:cNvSpPr/>
            <p:nvPr/>
          </p:nvSpPr>
          <p:spPr>
            <a:xfrm>
              <a:off x="8483760" y="25066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Línea 91"/>
          <p:cNvSpPr/>
          <p:nvPr/>
        </p:nvSpPr>
        <p:spPr>
          <a:xfrm>
            <a:off x="7818480" y="355752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Cuadro de texto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Hidrólisis de Triglicéridos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acción de la </a:t>
            </a:r>
            <a:r>
              <a:rPr b="1" i="1" lang="en-US" sz="3200" spc="-1" strike="noStrike">
                <a:solidFill>
                  <a:srgbClr val="ff0000"/>
                </a:solidFill>
                <a:latin typeface="Arial Rounded MT Bold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ángulo 112"/>
          <p:cNvSpPr/>
          <p:nvPr/>
        </p:nvSpPr>
        <p:spPr>
          <a:xfrm>
            <a:off x="6348960" y="521496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Cuadro de texto 114"/>
          <p:cNvSpPr/>
          <p:nvPr/>
        </p:nvSpPr>
        <p:spPr>
          <a:xfrm>
            <a:off x="4427640" y="206676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ángulo 111"/>
          <p:cNvSpPr/>
          <p:nvPr/>
        </p:nvSpPr>
        <p:spPr>
          <a:xfrm>
            <a:off x="642240" y="521496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ángulo 132"/>
          <p:cNvSpPr/>
          <p:nvPr/>
        </p:nvSpPr>
        <p:spPr>
          <a:xfrm>
            <a:off x="4650840" y="451476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1" name="Grupo 138"/>
          <p:cNvGrpSpPr/>
          <p:nvPr/>
        </p:nvGrpSpPr>
        <p:grpSpPr>
          <a:xfrm>
            <a:off x="7051680" y="4299120"/>
            <a:ext cx="2046600" cy="714960"/>
            <a:chOff x="7051680" y="4299120"/>
            <a:chExt cx="2046600" cy="714960"/>
          </a:xfrm>
        </p:grpSpPr>
        <p:grpSp>
          <p:nvGrpSpPr>
            <p:cNvPr id="642" name="Grupo 137"/>
            <p:cNvGrpSpPr/>
            <p:nvPr/>
          </p:nvGrpSpPr>
          <p:grpSpPr>
            <a:xfrm>
              <a:off x="7051680" y="4299120"/>
              <a:ext cx="2046600" cy="714960"/>
              <a:chOff x="7051680" y="4299120"/>
              <a:chExt cx="2046600" cy="714960"/>
            </a:xfrm>
          </p:grpSpPr>
          <p:grpSp>
            <p:nvGrpSpPr>
              <p:cNvPr id="643" name="Grupo 131"/>
              <p:cNvGrpSpPr/>
              <p:nvPr/>
            </p:nvGrpSpPr>
            <p:grpSpPr>
              <a:xfrm>
                <a:off x="7051680" y="4299120"/>
                <a:ext cx="2046600" cy="714960"/>
                <a:chOff x="7051680" y="4299120"/>
                <a:chExt cx="2046600" cy="714960"/>
              </a:xfrm>
            </p:grpSpPr>
            <p:sp>
              <p:nvSpPr>
                <p:cNvPr id="644" name="Rectángulo 74"/>
                <p:cNvSpPr/>
                <p:nvPr/>
              </p:nvSpPr>
              <p:spPr>
                <a:xfrm>
                  <a:off x="7051680" y="46083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5" name="Rectángulo 94"/>
                <p:cNvSpPr/>
                <p:nvPr/>
              </p:nvSpPr>
              <p:spPr>
                <a:xfrm>
                  <a:off x="7786800" y="4622760"/>
                  <a:ext cx="80316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6" name="Rectángulo 99"/>
                <p:cNvSpPr/>
                <p:nvPr/>
              </p:nvSpPr>
              <p:spPr>
                <a:xfrm>
                  <a:off x="7513560" y="42991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7" name="Rectángulo 101"/>
                <p:cNvSpPr/>
                <p:nvPr/>
              </p:nvSpPr>
              <p:spPr>
                <a:xfrm>
                  <a:off x="8559360" y="464328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48" name="Rectángulo 93"/>
              <p:cNvSpPr/>
              <p:nvPr/>
            </p:nvSpPr>
            <p:spPr>
              <a:xfrm>
                <a:off x="7505640" y="46069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Línea 100"/>
              <p:cNvSpPr/>
              <p:nvPr/>
            </p:nvSpPr>
            <p:spPr>
              <a:xfrm>
                <a:off x="8488440" y="4778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Línea 95"/>
            <p:cNvSpPr/>
            <p:nvPr/>
          </p:nvSpPr>
          <p:spPr>
            <a:xfrm>
              <a:off x="7746840" y="47689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Línea 96"/>
            <p:cNvSpPr/>
            <p:nvPr/>
          </p:nvSpPr>
          <p:spPr>
            <a:xfrm>
              <a:off x="7462800" y="47610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Línea 97"/>
            <p:cNvSpPr/>
            <p:nvPr/>
          </p:nvSpPr>
          <p:spPr>
            <a:xfrm>
              <a:off x="7648560" y="45543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Línea 98"/>
            <p:cNvSpPr/>
            <p:nvPr/>
          </p:nvSpPr>
          <p:spPr>
            <a:xfrm>
              <a:off x="7704000" y="45529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133 Grupo"/>
          <p:cNvGrpSpPr/>
          <p:nvPr/>
        </p:nvGrpSpPr>
        <p:grpSpPr>
          <a:xfrm>
            <a:off x="3059280" y="2857680"/>
            <a:ext cx="2160360" cy="1512720"/>
            <a:chOff x="3059280" y="2857680"/>
            <a:chExt cx="2160360" cy="1512720"/>
          </a:xfrm>
        </p:grpSpPr>
        <p:sp>
          <p:nvSpPr>
            <p:cNvPr id="655" name="Rectángulo 107"/>
            <p:cNvSpPr/>
            <p:nvPr/>
          </p:nvSpPr>
          <p:spPr>
            <a:xfrm>
              <a:off x="3059280" y="2857680"/>
              <a:ext cx="18968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Lipas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Pancreát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 6-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Línea 133"/>
            <p:cNvSpPr/>
            <p:nvPr/>
          </p:nvSpPr>
          <p:spPr>
            <a:xfrm>
              <a:off x="3143160" y="350064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Rectángulo 151"/>
            <p:cNvSpPr/>
            <p:nvPr/>
          </p:nvSpPr>
          <p:spPr>
            <a:xfrm>
              <a:off x="4932360" y="4010040"/>
              <a:ext cx="2872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upo 178"/>
          <p:cNvGrpSpPr/>
          <p:nvPr/>
        </p:nvGrpSpPr>
        <p:grpSpPr>
          <a:xfrm>
            <a:off x="331920" y="2286000"/>
            <a:ext cx="2739960" cy="2626560"/>
            <a:chOff x="331920" y="2286000"/>
            <a:chExt cx="2739960" cy="2626560"/>
          </a:xfrm>
        </p:grpSpPr>
        <p:sp>
          <p:nvSpPr>
            <p:cNvPr id="659" name="Rectángulo 47"/>
            <p:cNvSpPr/>
            <p:nvPr/>
          </p:nvSpPr>
          <p:spPr>
            <a:xfrm>
              <a:off x="1308240" y="3606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0" name="Grupo 177"/>
            <p:cNvGrpSpPr/>
            <p:nvPr/>
          </p:nvGrpSpPr>
          <p:grpSpPr>
            <a:xfrm>
              <a:off x="331920" y="2286000"/>
              <a:ext cx="2739960" cy="2626560"/>
              <a:chOff x="331920" y="2286000"/>
              <a:chExt cx="2739960" cy="2626560"/>
            </a:xfrm>
          </p:grpSpPr>
          <p:sp>
            <p:nvSpPr>
              <p:cNvPr id="661" name="Rectángulo 49"/>
              <p:cNvSpPr/>
              <p:nvPr/>
            </p:nvSpPr>
            <p:spPr>
              <a:xfrm>
                <a:off x="2498400" y="3868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Rectángulo 163"/>
              <p:cNvSpPr/>
              <p:nvPr/>
            </p:nvSpPr>
            <p:spPr>
              <a:xfrm>
                <a:off x="1698840" y="3868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Línea 164"/>
              <p:cNvSpPr/>
              <p:nvPr/>
            </p:nvSpPr>
            <p:spPr>
              <a:xfrm>
                <a:off x="2370240" y="4013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4" name="Grupo 176"/>
              <p:cNvGrpSpPr/>
              <p:nvPr/>
            </p:nvGrpSpPr>
            <p:grpSpPr>
              <a:xfrm>
                <a:off x="331920" y="2286000"/>
                <a:ext cx="2739960" cy="2626560"/>
                <a:chOff x="331920" y="2286000"/>
                <a:chExt cx="2739960" cy="2626560"/>
              </a:xfrm>
            </p:grpSpPr>
            <p:sp>
              <p:nvSpPr>
                <p:cNvPr id="665" name="Rectángulo 13"/>
                <p:cNvSpPr/>
                <p:nvPr/>
              </p:nvSpPr>
              <p:spPr>
                <a:xfrm>
                  <a:off x="655560" y="4251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6" name="Rectángulo 12"/>
                <p:cNvSpPr/>
                <p:nvPr/>
              </p:nvSpPr>
              <p:spPr>
                <a:xfrm>
                  <a:off x="642960" y="3907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7" name="Línea 14"/>
                <p:cNvSpPr/>
                <p:nvPr/>
              </p:nvSpPr>
              <p:spPr>
                <a:xfrm>
                  <a:off x="817560" y="4167360"/>
                  <a:ext cx="0" cy="13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Rectángulo 17"/>
                <p:cNvSpPr/>
                <p:nvPr/>
              </p:nvSpPr>
              <p:spPr>
                <a:xfrm>
                  <a:off x="339840" y="3916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9" name="Línea 18"/>
                <p:cNvSpPr/>
                <p:nvPr/>
              </p:nvSpPr>
              <p:spPr>
                <a:xfrm>
                  <a:off x="595440" y="4062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0" name="Rectángulo 22"/>
                <p:cNvSpPr/>
                <p:nvPr/>
              </p:nvSpPr>
              <p:spPr>
                <a:xfrm>
                  <a:off x="1033560" y="3915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Rectángulo 41"/>
                <p:cNvSpPr/>
                <p:nvPr/>
              </p:nvSpPr>
              <p:spPr>
                <a:xfrm>
                  <a:off x="1299960" y="3913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Línea 43"/>
                <p:cNvSpPr/>
                <p:nvPr/>
              </p:nvSpPr>
              <p:spPr>
                <a:xfrm>
                  <a:off x="1541520" y="4075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Línea 15"/>
                <p:cNvSpPr/>
                <p:nvPr/>
              </p:nvSpPr>
              <p:spPr>
                <a:xfrm>
                  <a:off x="919080" y="4057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Línea 46"/>
                <p:cNvSpPr/>
                <p:nvPr/>
              </p:nvSpPr>
              <p:spPr>
                <a:xfrm>
                  <a:off x="1498680" y="388008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75" name="Grupo 170"/>
                <p:cNvGrpSpPr/>
                <p:nvPr/>
              </p:nvGrpSpPr>
              <p:grpSpPr>
                <a:xfrm>
                  <a:off x="331920" y="2286000"/>
                  <a:ext cx="2739960" cy="2626560"/>
                  <a:chOff x="331920" y="2286000"/>
                  <a:chExt cx="2739960" cy="2626560"/>
                </a:xfrm>
              </p:grpSpPr>
              <p:sp>
                <p:nvSpPr>
                  <p:cNvPr id="676" name="Rectángulo 40"/>
                  <p:cNvSpPr/>
                  <p:nvPr/>
                </p:nvSpPr>
                <p:spPr>
                  <a:xfrm>
                    <a:off x="2498400" y="3294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7" name="Rectángulo 32"/>
                  <p:cNvSpPr/>
                  <p:nvPr/>
                </p:nvSpPr>
                <p:spPr>
                  <a:xfrm>
                    <a:off x="1303200" y="3294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8" name="Rectángulo 38"/>
                  <p:cNvSpPr/>
                  <p:nvPr/>
                </p:nvSpPr>
                <p:spPr>
                  <a:xfrm>
                    <a:off x="1290600" y="2968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9" name="Línea 34"/>
                  <p:cNvSpPr/>
                  <p:nvPr/>
                </p:nvSpPr>
                <p:spPr>
                  <a:xfrm>
                    <a:off x="1541520" y="3422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0" name="Línea 35"/>
                  <p:cNvSpPr/>
                  <p:nvPr/>
                </p:nvSpPr>
                <p:spPr>
                  <a:xfrm>
                    <a:off x="1243080" y="3452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1" name="Línea 36"/>
                  <p:cNvSpPr/>
                  <p:nvPr/>
                </p:nvSpPr>
                <p:spPr>
                  <a:xfrm>
                    <a:off x="1428840" y="3245040"/>
                    <a:ext cx="144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2" name="Línea 37"/>
                  <p:cNvSpPr/>
                  <p:nvPr/>
                </p:nvSpPr>
                <p:spPr>
                  <a:xfrm>
                    <a:off x="1484280" y="3243240"/>
                    <a:ext cx="0" cy="122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3" name="Rectángulo 162"/>
                  <p:cNvSpPr/>
                  <p:nvPr/>
                </p:nvSpPr>
                <p:spPr>
                  <a:xfrm>
                    <a:off x="1698840" y="3294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Línea 165"/>
                  <p:cNvSpPr/>
                  <p:nvPr/>
                </p:nvSpPr>
                <p:spPr>
                  <a:xfrm>
                    <a:off x="2370240" y="3436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85" name="Grupo 169"/>
                  <p:cNvGrpSpPr/>
                  <p:nvPr/>
                </p:nvGrpSpPr>
                <p:grpSpPr>
                  <a:xfrm>
                    <a:off x="331920" y="2286000"/>
                    <a:ext cx="2739960" cy="2626560"/>
                    <a:chOff x="331920" y="2286000"/>
                    <a:chExt cx="2739960" cy="2626560"/>
                  </a:xfrm>
                </p:grpSpPr>
                <p:sp>
                  <p:nvSpPr>
                    <p:cNvPr id="686" name="Rectángulo 29"/>
                    <p:cNvSpPr/>
                    <p:nvPr/>
                  </p:nvSpPr>
                  <p:spPr>
                    <a:xfrm>
                      <a:off x="1306440" y="228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7" name="Rectángulo 24"/>
                    <p:cNvSpPr/>
                    <p:nvPr/>
                  </p:nvSpPr>
                  <p:spPr>
                    <a:xfrm>
                      <a:off x="1609920" y="2639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8" name="Línea 30"/>
                    <p:cNvSpPr/>
                    <p:nvPr/>
                  </p:nvSpPr>
                  <p:spPr>
                    <a:xfrm>
                      <a:off x="2284560" y="2813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9" name="Rectángulo 31"/>
                    <p:cNvSpPr/>
                    <p:nvPr/>
                  </p:nvSpPr>
                  <p:spPr>
                    <a:xfrm>
                      <a:off x="2355480" y="2644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0" name="Línea 27"/>
                    <p:cNvSpPr/>
                    <p:nvPr/>
                  </p:nvSpPr>
                  <p:spPr>
                    <a:xfrm>
                      <a:off x="1427400" y="2575080"/>
                      <a:ext cx="1440" cy="101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Línea 28"/>
                    <p:cNvSpPr/>
                    <p:nvPr/>
                  </p:nvSpPr>
                  <p:spPr>
                    <a:xfrm>
                      <a:off x="1484280" y="2573280"/>
                      <a:ext cx="0" cy="122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Rectángulo 23"/>
                    <p:cNvSpPr/>
                    <p:nvPr/>
                  </p:nvSpPr>
                  <p:spPr>
                    <a:xfrm>
                      <a:off x="1298520" y="2643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93" name="Grupo 168"/>
                    <p:cNvGrpSpPr/>
                    <p:nvPr/>
                  </p:nvGrpSpPr>
                  <p:grpSpPr>
                    <a:xfrm>
                      <a:off x="331920" y="2311560"/>
                      <a:ext cx="2739960" cy="2601000"/>
                      <a:chOff x="331920" y="2311560"/>
                      <a:chExt cx="2739960" cy="2601000"/>
                    </a:xfrm>
                  </p:grpSpPr>
                  <p:sp>
                    <p:nvSpPr>
                      <p:cNvPr id="694" name="Rectángulo 21"/>
                      <p:cNvSpPr/>
                      <p:nvPr/>
                    </p:nvSpPr>
                    <p:spPr>
                      <a:xfrm>
                        <a:off x="1011240" y="327204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5" name="Rectángulo 5"/>
                      <p:cNvSpPr/>
                      <p:nvPr/>
                    </p:nvSpPr>
                    <p:spPr>
                      <a:xfrm>
                        <a:off x="331920" y="32828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6" name="Rectángulo 2"/>
                      <p:cNvSpPr/>
                      <p:nvPr/>
                    </p:nvSpPr>
                    <p:spPr>
                      <a:xfrm>
                        <a:off x="657360" y="32688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7" name="Línea 8"/>
                      <p:cNvSpPr/>
                      <p:nvPr/>
                    </p:nvSpPr>
                    <p:spPr>
                      <a:xfrm>
                        <a:off x="941400" y="3422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8" name="Línea 9"/>
                      <p:cNvSpPr/>
                      <p:nvPr/>
                    </p:nvSpPr>
                    <p:spPr>
                      <a:xfrm>
                        <a:off x="604800" y="3467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699" name="Grupo 167"/>
                      <p:cNvGrpSpPr/>
                      <p:nvPr/>
                    </p:nvGrpSpPr>
                    <p:grpSpPr>
                      <a:xfrm>
                        <a:off x="333360" y="2311560"/>
                        <a:ext cx="2738520" cy="2601000"/>
                        <a:chOff x="333360" y="2311560"/>
                        <a:chExt cx="2738520" cy="2601000"/>
                      </a:xfrm>
                    </p:grpSpPr>
                    <p:sp>
                      <p:nvSpPr>
                        <p:cNvPr id="700" name="Rectángulo 108"/>
                        <p:cNvSpPr/>
                        <p:nvPr/>
                      </p:nvSpPr>
                      <p:spPr>
                        <a:xfrm>
                          <a:off x="1050840" y="4572000"/>
                          <a:ext cx="202104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1" name="Rectángulo 4"/>
                        <p:cNvSpPr/>
                        <p:nvPr/>
                      </p:nvSpPr>
                      <p:spPr>
                        <a:xfrm>
                          <a:off x="974880" y="263988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2" name="Rectángulo 3"/>
                        <p:cNvSpPr/>
                        <p:nvPr/>
                      </p:nvSpPr>
                      <p:spPr>
                        <a:xfrm>
                          <a:off x="655560" y="266688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3" name="Rectángulo 11"/>
                        <p:cNvSpPr/>
                        <p:nvPr/>
                      </p:nvSpPr>
                      <p:spPr>
                        <a:xfrm>
                          <a:off x="666720" y="2311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4" name="Rectángulo 19"/>
                        <p:cNvSpPr/>
                        <p:nvPr/>
                      </p:nvSpPr>
                      <p:spPr>
                        <a:xfrm>
                          <a:off x="333360" y="264492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5" name="Línea 20"/>
                        <p:cNvSpPr/>
                        <p:nvPr/>
                      </p:nvSpPr>
                      <p:spPr>
                        <a:xfrm>
                          <a:off x="547920" y="278136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6" name="Línea 6"/>
                        <p:cNvSpPr/>
                        <p:nvPr/>
                      </p:nvSpPr>
                      <p:spPr>
                        <a:xfrm>
                          <a:off x="804960" y="2571840"/>
                          <a:ext cx="0" cy="141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7" name="Línea 10"/>
                        <p:cNvSpPr/>
                        <p:nvPr/>
                      </p:nvSpPr>
                      <p:spPr>
                        <a:xfrm>
                          <a:off x="900360" y="27846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8" name="Línea 26"/>
                        <p:cNvSpPr/>
                        <p:nvPr/>
                      </p:nvSpPr>
                      <p:spPr>
                        <a:xfrm>
                          <a:off x="1257480" y="27972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09" name="Línea 159"/>
                      <p:cNvSpPr/>
                      <p:nvPr/>
                    </p:nvSpPr>
                    <p:spPr>
                      <a:xfrm>
                        <a:off x="835200" y="2933640"/>
                        <a:ext cx="0" cy="358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0" name="Línea 160"/>
                      <p:cNvSpPr/>
                      <p:nvPr/>
                    </p:nvSpPr>
                    <p:spPr>
                      <a:xfrm>
                        <a:off x="835200" y="35830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1" name="Línea 25"/>
                    <p:cNvSpPr/>
                    <p:nvPr/>
                  </p:nvSpPr>
                  <p:spPr>
                    <a:xfrm>
                      <a:off x="1541520" y="2805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12" name="Línea 44"/>
                <p:cNvSpPr/>
                <p:nvPr/>
              </p:nvSpPr>
              <p:spPr>
                <a:xfrm>
                  <a:off x="1243080" y="4086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3" name="Línea 175"/>
                <p:cNvSpPr/>
                <p:nvPr/>
              </p:nvSpPr>
              <p:spPr>
                <a:xfrm>
                  <a:off x="1447920" y="386712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14" name="134 Grupo"/>
          <p:cNvGrpSpPr/>
          <p:nvPr/>
        </p:nvGrpSpPr>
        <p:grpSpPr>
          <a:xfrm>
            <a:off x="4913280" y="2708280"/>
            <a:ext cx="2726280" cy="1727280"/>
            <a:chOff x="4913280" y="2708280"/>
            <a:chExt cx="2726280" cy="1727280"/>
          </a:xfrm>
        </p:grpSpPr>
        <p:sp>
          <p:nvSpPr>
            <p:cNvPr id="715" name="Línea 58"/>
            <p:cNvSpPr/>
            <p:nvPr/>
          </p:nvSpPr>
          <p:spPr>
            <a:xfrm>
              <a:off x="6354720" y="2708280"/>
              <a:ext cx="0" cy="141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Línea 66"/>
            <p:cNvSpPr/>
            <p:nvPr/>
          </p:nvSpPr>
          <p:spPr>
            <a:xfrm>
              <a:off x="6353280" y="4295880"/>
              <a:ext cx="0" cy="139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Línea 67"/>
            <p:cNvSpPr/>
            <p:nvPr/>
          </p:nvSpPr>
          <p:spPr>
            <a:xfrm>
              <a:off x="6469200" y="4194360"/>
              <a:ext cx="122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Línea 70"/>
            <p:cNvSpPr/>
            <p:nvPr/>
          </p:nvSpPr>
          <p:spPr>
            <a:xfrm>
              <a:off x="6130800" y="419112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Línea 72"/>
            <p:cNvSpPr/>
            <p:nvPr/>
          </p:nvSpPr>
          <p:spPr>
            <a:xfrm>
              <a:off x="6124680" y="291780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0" name="Grupo 155"/>
            <p:cNvGrpSpPr/>
            <p:nvPr/>
          </p:nvGrpSpPr>
          <p:grpSpPr>
            <a:xfrm>
              <a:off x="4913280" y="2786040"/>
              <a:ext cx="2726280" cy="1618200"/>
              <a:chOff x="4913280" y="2786040"/>
              <a:chExt cx="2726280" cy="1618200"/>
            </a:xfrm>
          </p:grpSpPr>
          <p:grpSp>
            <p:nvGrpSpPr>
              <p:cNvPr id="721" name="Grupo 153"/>
              <p:cNvGrpSpPr/>
              <p:nvPr/>
            </p:nvGrpSpPr>
            <p:grpSpPr>
              <a:xfrm>
                <a:off x="4913280" y="2786040"/>
                <a:ext cx="2726280" cy="1618200"/>
                <a:chOff x="4913280" y="2786040"/>
                <a:chExt cx="2726280" cy="1618200"/>
              </a:xfrm>
            </p:grpSpPr>
            <p:grpSp>
              <p:nvGrpSpPr>
                <p:cNvPr id="722" name="Grupo 150"/>
                <p:cNvGrpSpPr/>
                <p:nvPr/>
              </p:nvGrpSpPr>
              <p:grpSpPr>
                <a:xfrm>
                  <a:off x="4913280" y="2786040"/>
                  <a:ext cx="2726280" cy="1618200"/>
                  <a:chOff x="4913280" y="2786040"/>
                  <a:chExt cx="2726280" cy="1618200"/>
                </a:xfrm>
              </p:grpSpPr>
              <p:grpSp>
                <p:nvGrpSpPr>
                  <p:cNvPr id="723" name="Grupo 141"/>
                  <p:cNvGrpSpPr/>
                  <p:nvPr/>
                </p:nvGrpSpPr>
                <p:grpSpPr>
                  <a:xfrm>
                    <a:off x="4913280" y="2786040"/>
                    <a:ext cx="2726280" cy="1618200"/>
                    <a:chOff x="4913280" y="2786040"/>
                    <a:chExt cx="2726280" cy="1618200"/>
                  </a:xfrm>
                </p:grpSpPr>
                <p:grpSp>
                  <p:nvGrpSpPr>
                    <p:cNvPr id="724" name="Grupo 140"/>
                    <p:cNvGrpSpPr/>
                    <p:nvPr/>
                  </p:nvGrpSpPr>
                  <p:grpSpPr>
                    <a:xfrm>
                      <a:off x="4913280" y="2786040"/>
                      <a:ext cx="2726280" cy="1618200"/>
                      <a:chOff x="4913280" y="2786040"/>
                      <a:chExt cx="2726280" cy="1618200"/>
                    </a:xfrm>
                  </p:grpSpPr>
                  <p:grpSp>
                    <p:nvGrpSpPr>
                      <p:cNvPr id="725" name="Grupo 139"/>
                      <p:cNvGrpSpPr/>
                      <p:nvPr/>
                    </p:nvGrpSpPr>
                    <p:grpSpPr>
                      <a:xfrm>
                        <a:off x="4913280" y="2786040"/>
                        <a:ext cx="2726280" cy="1618200"/>
                        <a:chOff x="4913280" y="2786040"/>
                        <a:chExt cx="2726280" cy="1618200"/>
                      </a:xfrm>
                    </p:grpSpPr>
                    <p:sp>
                      <p:nvSpPr>
                        <p:cNvPr id="726" name="Rectángulo 55"/>
                        <p:cNvSpPr/>
                        <p:nvPr/>
                      </p:nvSpPr>
                      <p:spPr>
                        <a:xfrm>
                          <a:off x="5183280" y="27936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27" name="Rectángulo 57"/>
                        <p:cNvSpPr/>
                        <p:nvPr/>
                      </p:nvSpPr>
                      <p:spPr>
                        <a:xfrm>
                          <a:off x="4913280" y="33573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28" name="Rectángulo 84"/>
                        <p:cNvSpPr/>
                        <p:nvPr/>
                      </p:nvSpPr>
                      <p:spPr>
                        <a:xfrm>
                          <a:off x="5891040" y="33858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29" name="Rectángulo 85"/>
                        <p:cNvSpPr/>
                        <p:nvPr/>
                      </p:nvSpPr>
                      <p:spPr>
                        <a:xfrm>
                          <a:off x="6300720" y="338580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0" name="Rectángulo 90"/>
                        <p:cNvSpPr/>
                        <p:nvPr/>
                      </p:nvSpPr>
                      <p:spPr>
                        <a:xfrm>
                          <a:off x="5867280" y="3047760"/>
                          <a:ext cx="3160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1" name="Rectángulo 92"/>
                        <p:cNvSpPr/>
                        <p:nvPr/>
                      </p:nvSpPr>
                      <p:spPr>
                        <a:xfrm>
                          <a:off x="7100640" y="338580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2" name="Rectángulo 103"/>
                        <p:cNvSpPr/>
                        <p:nvPr/>
                      </p:nvSpPr>
                      <p:spPr>
                        <a:xfrm>
                          <a:off x="4916160" y="400968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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3" name="Rectángulo 106"/>
                        <p:cNvSpPr/>
                        <p:nvPr/>
                      </p:nvSpPr>
                      <p:spPr>
                        <a:xfrm>
                          <a:off x="5435640" y="4033440"/>
                          <a:ext cx="43164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4" name="Rectángulo 54"/>
                        <p:cNvSpPr/>
                        <p:nvPr/>
                      </p:nvSpPr>
                      <p:spPr>
                        <a:xfrm>
                          <a:off x="5148360" y="3362040"/>
                          <a:ext cx="33012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5" name="Línea 59"/>
                        <p:cNvSpPr/>
                        <p:nvPr/>
                      </p:nvSpPr>
                      <p:spPr>
                        <a:xfrm>
                          <a:off x="5292720" y="3074760"/>
                          <a:ext cx="0" cy="369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6" name="Línea 68"/>
                        <p:cNvSpPr/>
                        <p:nvPr/>
                      </p:nvSpPr>
                      <p:spPr>
                        <a:xfrm>
                          <a:off x="5292720" y="3649320"/>
                          <a:ext cx="0" cy="369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7" name="Línea 87"/>
                        <p:cNvSpPr/>
                        <p:nvPr/>
                      </p:nvSpPr>
                      <p:spPr>
                        <a:xfrm>
                          <a:off x="7020000" y="360180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8" name="Línea 86"/>
                        <p:cNvSpPr/>
                        <p:nvPr/>
                      </p:nvSpPr>
                      <p:spPr>
                        <a:xfrm>
                          <a:off x="6156360" y="357804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9" name="Rectángulo 73"/>
                        <p:cNvSpPr/>
                        <p:nvPr/>
                      </p:nvSpPr>
                      <p:spPr>
                        <a:xfrm>
                          <a:off x="5508720" y="336204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0" name="Rectángulo 105"/>
                        <p:cNvSpPr/>
                        <p:nvPr/>
                      </p:nvSpPr>
                      <p:spPr>
                        <a:xfrm>
                          <a:off x="5435640" y="2786040"/>
                          <a:ext cx="4381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41" name="Rectángulo 102"/>
                      <p:cNvSpPr/>
                      <p:nvPr/>
                    </p:nvSpPr>
                    <p:spPr>
                      <a:xfrm>
                        <a:off x="5364000" y="3001680"/>
                        <a:ext cx="301680" cy="36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2" name="Rectángulo 104"/>
                      <p:cNvSpPr/>
                      <p:nvPr/>
                    </p:nvSpPr>
                    <p:spPr>
                      <a:xfrm>
                        <a:off x="5294160" y="3601800"/>
                        <a:ext cx="29196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3" name="Línea 61"/>
                      <p:cNvSpPr/>
                      <p:nvPr/>
                    </p:nvSpPr>
                    <p:spPr>
                      <a:xfrm>
                        <a:off x="579600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4" name="Línea 88"/>
                      <p:cNvSpPr/>
                      <p:nvPr/>
                    </p:nvSpPr>
                    <p:spPr>
                      <a:xfrm>
                        <a:off x="6012000" y="329076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5" name="Línea 89"/>
                      <p:cNvSpPr/>
                      <p:nvPr/>
                    </p:nvSpPr>
                    <p:spPr>
                      <a:xfrm>
                        <a:off x="6067440" y="3301920"/>
                        <a:ext cx="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6" name="Línea 60"/>
                      <p:cNvSpPr/>
                      <p:nvPr/>
                    </p:nvSpPr>
                    <p:spPr>
                      <a:xfrm>
                        <a:off x="543564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47" name="Rectángulo 64"/>
                    <p:cNvSpPr/>
                    <p:nvPr/>
                  </p:nvSpPr>
                  <p:spPr>
                    <a:xfrm>
                      <a:off x="5170320" y="40417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48" name="Rectángulo 149"/>
                  <p:cNvSpPr/>
                  <p:nvPr/>
                </p:nvSpPr>
                <p:spPr>
                  <a:xfrm>
                    <a:off x="4932360" y="4017960"/>
                    <a:ext cx="287280" cy="36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49" name="Rectángulo 152"/>
                <p:cNvSpPr/>
                <p:nvPr/>
              </p:nvSpPr>
              <p:spPr>
                <a:xfrm>
                  <a:off x="5364000" y="3657600"/>
                  <a:ext cx="216000" cy="28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0" name="Rectángulo 154"/>
              <p:cNvSpPr/>
              <p:nvPr/>
            </p:nvSpPr>
            <p:spPr>
              <a:xfrm>
                <a:off x="5364000" y="3154320"/>
                <a:ext cx="28764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1" name="Cuadro de texto 182"/>
            <p:cNvSpPr/>
            <p:nvPr/>
          </p:nvSpPr>
          <p:spPr>
            <a:xfrm>
              <a:off x="5143320" y="2786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Cuadro de texto 183"/>
            <p:cNvSpPr/>
            <p:nvPr/>
          </p:nvSpPr>
          <p:spPr>
            <a:xfrm>
              <a:off x="5148000" y="4010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55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Cuadro de texto 15"/>
          <p:cNvSpPr/>
          <p:nvPr/>
        </p:nvSpPr>
        <p:spPr>
          <a:xfrm>
            <a:off x="4643280" y="2286000"/>
            <a:ext cx="162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Cuadro de texto 14"/>
          <p:cNvSpPr/>
          <p:nvPr/>
        </p:nvSpPr>
        <p:spPr>
          <a:xfrm>
            <a:off x="3429000" y="6000840"/>
            <a:ext cx="172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60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Forma libre 16"/>
          <p:cNvSpPr/>
          <p:nvPr/>
        </p:nvSpPr>
        <p:spPr>
          <a:xfrm flipH="1" rot="10518000">
            <a:off x="3493080" y="4368960"/>
            <a:ext cx="353880" cy="1584000"/>
          </a:xfrm>
          <a:custGeom>
            <a:avLst/>
            <a:gdLst>
              <a:gd name="textAreaLeft" fmla="*/ -360 w 353880"/>
              <a:gd name="textAreaRight" fmla="*/ 353880 w 3538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orma libre 16"/>
          <p:cNvSpPr/>
          <p:nvPr/>
        </p:nvSpPr>
        <p:spPr>
          <a:xfrm flipH="1">
            <a:off x="4500000" y="2786040"/>
            <a:ext cx="500040" cy="1584360"/>
          </a:xfrm>
          <a:custGeom>
            <a:avLst/>
            <a:gdLst>
              <a:gd name="textAreaLeft" fmla="*/ -360 w 500040"/>
              <a:gd name="textAreaRight" fmla="*/ 500040 w 5000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3 Rectángulo"/>
          <p:cNvSpPr/>
          <p:nvPr/>
        </p:nvSpPr>
        <p:spPr>
          <a:xfrm>
            <a:off x="285840" y="100008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 y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Cuadro de texto 5"/>
          <p:cNvSpPr/>
          <p:nvPr/>
        </p:nvSpPr>
        <p:spPr>
          <a:xfrm>
            <a:off x="214200" y="363600"/>
            <a:ext cx="8856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Cuadro de texto 6"/>
          <p:cNvSpPr/>
          <p:nvPr/>
        </p:nvSpPr>
        <p:spPr>
          <a:xfrm>
            <a:off x="755640" y="200016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6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0" name="Cuadro de texto 8"/>
          <p:cNvSpPr/>
          <p:nvPr/>
        </p:nvSpPr>
        <p:spPr>
          <a:xfrm>
            <a:off x="857160" y="1101600"/>
            <a:ext cx="7572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Existirían proteínas de membrana que los fijan y transport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Cuadro de texto 10"/>
          <p:cNvSpPr/>
          <p:nvPr/>
        </p:nvSpPr>
        <p:spPr>
          <a:xfrm>
            <a:off x="230040" y="32860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7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7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8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8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8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791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4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795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805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6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807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G                 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14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44 CuadroTexto"/>
          <p:cNvSpPr/>
          <p:nvPr/>
        </p:nvSpPr>
        <p:spPr>
          <a:xfrm>
            <a:off x="7286760" y="35719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……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rc 45"/>
          <p:cNvSpPr/>
          <p:nvPr/>
        </p:nvSpPr>
        <p:spPr>
          <a:xfrm rot="5400000">
            <a:off x="3329640" y="3771000"/>
            <a:ext cx="539640" cy="360360"/>
          </a:xfrm>
          <a:custGeom>
            <a:avLst/>
            <a:gdLst>
              <a:gd name="textAreaLeft" fmla="*/ 0 w 539640"/>
              <a:gd name="textAreaRight" fmla="*/ 540000 w 53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7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818" name="Arc 47"/>
            <p:cNvSpPr/>
            <p:nvPr/>
          </p:nvSpPr>
          <p:spPr>
            <a:xfrm rot="17181600">
              <a:off x="2829600" y="3558240"/>
              <a:ext cx="536400" cy="3603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</a:path>
                <a:path stroke="0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1 CuadroTexto"/>
          <p:cNvSpPr/>
          <p:nvPr/>
        </p:nvSpPr>
        <p:spPr>
          <a:xfrm>
            <a:off x="3202920" y="6206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MACRONUTRI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2 CuadroTexto"/>
          <p:cNvSpPr/>
          <p:nvPr/>
        </p:nvSpPr>
        <p:spPr>
          <a:xfrm>
            <a:off x="532440" y="9810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LIP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428760" y="141300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Al igual que los carbohidratos, los lípidos se componen de carbono, hidrógeno y oxígeno, pero en este caso, la cantidad de hidrógeno es superior a la cantidad de átomos de oxígeno, confiriendo a estos compuestos propiedades químicas distint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- Los lípidos se clasifican en dos grupos: </a:t>
            </a: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saponificables</a:t>
            </a: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 y </a:t>
            </a: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no-saponificables</a:t>
            </a: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4 CuadroTexto"/>
          <p:cNvSpPr/>
          <p:nvPr/>
        </p:nvSpPr>
        <p:spPr>
          <a:xfrm>
            <a:off x="468360" y="328464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5 Abrir llave"/>
          <p:cNvSpPr/>
          <p:nvPr/>
        </p:nvSpPr>
        <p:spPr>
          <a:xfrm>
            <a:off x="2195640" y="3073320"/>
            <a:ext cx="196560" cy="860400"/>
          </a:xfrm>
          <a:custGeom>
            <a:avLst/>
            <a:gdLst>
              <a:gd name="textAreaLeft" fmla="*/ 125640 w 196560"/>
              <a:gd name="textAreaRight" fmla="*/ 196920 w 196560"/>
              <a:gd name="textAreaTop" fmla="*/ 5040 h 860400"/>
              <a:gd name="textAreaBottom" fmla="*/ 855360 h 86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5400" y="10800"/>
                  <a:pt x="0" y="10800"/>
                </a:cubicBezTo>
                <a:cubicBezTo>
                  <a:pt x="54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6 CuadroTexto"/>
          <p:cNvSpPr/>
          <p:nvPr/>
        </p:nvSpPr>
        <p:spPr>
          <a:xfrm>
            <a:off x="2340000" y="301788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Simple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: ácidos grasos libres, grasas neutras y cer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Compuesto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: fosfolípidos, glucolípidos (ej. triglicéridos), lipoproteín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sp3191"/>
          <p:cNvPicPr/>
          <p:nvPr/>
        </p:nvPicPr>
        <p:blipFill>
          <a:blip r:embed="rId1"/>
          <a:stretch/>
        </p:blipFill>
        <p:spPr>
          <a:xfrm>
            <a:off x="971640" y="4138560"/>
            <a:ext cx="1785960" cy="2530440"/>
          </a:xfrm>
          <a:prstGeom prst="rect">
            <a:avLst/>
          </a:prstGeom>
          <a:ln w="0">
            <a:noFill/>
          </a:ln>
        </p:spPr>
      </p:pic>
      <p:sp>
        <p:nvSpPr>
          <p:cNvPr id="549" name="10 CuadroTexto"/>
          <p:cNvSpPr/>
          <p:nvPr/>
        </p:nvSpPr>
        <p:spPr>
          <a:xfrm>
            <a:off x="2916360" y="61009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donde: R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idos grasos saturados y/o insatu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3059280" y="5157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780000" y="441180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Principal constituyente de las grasas de los alimentos de origen ani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Group 20"/>
          <p:cNvGrpSpPr/>
          <p:nvPr/>
        </p:nvGrpSpPr>
        <p:grpSpPr>
          <a:xfrm>
            <a:off x="5867280" y="3933720"/>
            <a:ext cx="2760840" cy="2708280"/>
            <a:chOff x="5867280" y="3933720"/>
            <a:chExt cx="2760840" cy="2708280"/>
          </a:xfrm>
        </p:grpSpPr>
        <p:pic>
          <p:nvPicPr>
            <p:cNvPr id="553" name="Picture 18" descr="grasas animales"/>
            <p:cNvPicPr/>
            <p:nvPr/>
          </p:nvPicPr>
          <p:blipFill>
            <a:blip r:embed="rId2"/>
            <a:srcRect l="21571" t="10843" r="0" b="0"/>
            <a:stretch/>
          </p:blipFill>
          <p:spPr>
            <a:xfrm>
              <a:off x="5940360" y="3933720"/>
              <a:ext cx="268776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Rectangle 19"/>
            <p:cNvSpPr/>
            <p:nvPr/>
          </p:nvSpPr>
          <p:spPr>
            <a:xfrm>
              <a:off x="5867280" y="3933720"/>
              <a:ext cx="100980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0"/>
          <p:cNvSpPr/>
          <p:nvPr/>
        </p:nvSpPr>
        <p:spPr>
          <a:xfrm>
            <a:off x="96840" y="25704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Biosíntesis de Triglicér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Picture 4" descr="Monoacylglycerol pathway of triacylglycerol biosynthesis"/>
          <p:cNvPicPr/>
          <p:nvPr/>
        </p:nvPicPr>
        <p:blipFill>
          <a:blip r:embed="rId1"/>
          <a:stretch/>
        </p:blipFill>
        <p:spPr>
          <a:xfrm>
            <a:off x="142920" y="3044880"/>
            <a:ext cx="8532720" cy="3479760"/>
          </a:xfrm>
          <a:prstGeom prst="rect">
            <a:avLst/>
          </a:prstGeom>
          <a:ln w="0">
            <a:noFill/>
          </a:ln>
        </p:spPr>
      </p:pic>
      <p:grpSp>
        <p:nvGrpSpPr>
          <p:cNvPr id="822" name="Group 10"/>
          <p:cNvGrpSpPr/>
          <p:nvPr/>
        </p:nvGrpSpPr>
        <p:grpSpPr>
          <a:xfrm>
            <a:off x="1908000" y="3773520"/>
            <a:ext cx="1857600" cy="772560"/>
            <a:chOff x="1908000" y="3773520"/>
            <a:chExt cx="1857600" cy="772560"/>
          </a:xfrm>
        </p:grpSpPr>
        <p:sp>
          <p:nvSpPr>
            <p:cNvPr id="823" name="Cuadro de texto 10"/>
            <p:cNvSpPr/>
            <p:nvPr/>
          </p:nvSpPr>
          <p:spPr>
            <a:xfrm>
              <a:off x="1908000" y="3773520"/>
              <a:ext cx="185760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rc 8"/>
            <p:cNvSpPr/>
            <p:nvPr/>
          </p:nvSpPr>
          <p:spPr>
            <a:xfrm rot="10800000">
              <a:off x="2844720" y="4114440"/>
              <a:ext cx="432000" cy="4316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Group 11"/>
          <p:cNvGrpSpPr/>
          <p:nvPr/>
        </p:nvGrpSpPr>
        <p:grpSpPr>
          <a:xfrm>
            <a:off x="4946760" y="3825720"/>
            <a:ext cx="1857240" cy="649080"/>
            <a:chOff x="4946760" y="3825720"/>
            <a:chExt cx="1857240" cy="649080"/>
          </a:xfrm>
        </p:grpSpPr>
        <p:sp>
          <p:nvSpPr>
            <p:cNvPr id="826" name="Cuadro de texto 10"/>
            <p:cNvSpPr/>
            <p:nvPr/>
          </p:nvSpPr>
          <p:spPr>
            <a:xfrm>
              <a:off x="4946760" y="3825720"/>
              <a:ext cx="185724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rc 9"/>
            <p:cNvSpPr/>
            <p:nvPr/>
          </p:nvSpPr>
          <p:spPr>
            <a:xfrm rot="10800000">
              <a:off x="5868720" y="4185720"/>
              <a:ext cx="431640" cy="2890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8" name="Text Box 12"/>
          <p:cNvSpPr/>
          <p:nvPr/>
        </p:nvSpPr>
        <p:spPr>
          <a:xfrm>
            <a:off x="2328120" y="4546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280840" y="4475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0" name="Group 14"/>
          <p:cNvGrpSpPr/>
          <p:nvPr/>
        </p:nvGrpSpPr>
        <p:grpSpPr>
          <a:xfrm>
            <a:off x="250920" y="1477800"/>
            <a:ext cx="8820000" cy="1160280"/>
            <a:chOff x="250920" y="1477800"/>
            <a:chExt cx="8820000" cy="1160280"/>
          </a:xfrm>
        </p:grpSpPr>
        <p:sp>
          <p:nvSpPr>
            <p:cNvPr id="831" name="Cuadro de texto 4"/>
            <p:cNvSpPr/>
            <p:nvPr/>
          </p:nvSpPr>
          <p:spPr>
            <a:xfrm>
              <a:off x="5938560" y="2269800"/>
              <a:ext cx="17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Cuadro de texto 6"/>
            <p:cNvSpPr/>
            <p:nvPr/>
          </p:nvSpPr>
          <p:spPr>
            <a:xfrm>
              <a:off x="3778200" y="147780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o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Cuadro de texto 8"/>
            <p:cNvSpPr/>
            <p:nvPr/>
          </p:nvSpPr>
          <p:spPr>
            <a:xfrm>
              <a:off x="3706560" y="2269800"/>
              <a:ext cx="237600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TP    AMP + PP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Autoforma 9"/>
            <p:cNvSpPr/>
            <p:nvPr/>
          </p:nvSpPr>
          <p:spPr>
            <a:xfrm>
              <a:off x="4087440" y="2053800"/>
              <a:ext cx="709560" cy="287280"/>
            </a:xfrm>
            <a:custGeom>
              <a:avLst/>
              <a:gdLst>
                <a:gd name="textAreaLeft" fmla="*/ 145080 w 709560"/>
                <a:gd name="textAreaRight" fmla="*/ 521640 w 7095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29" hR="21600" stAng="10800000" swAng="5400000"/>
                  <a:lnTo>
                    <a:pt x="11458" y="0"/>
                  </a:lnTo>
                  <a:arcTo wR="8829" hR="21600" stAng="-5400000" swAng="3431669"/>
                  <a:lnTo>
                    <a:pt x="21309" y="16097"/>
                  </a:lnTo>
                  <a:lnTo>
                    <a:pt x="18972" y="21600"/>
                  </a:lnTo>
                  <a:lnTo>
                    <a:pt x="16052" y="16097"/>
                  </a:lnTo>
                  <a:lnTo>
                    <a:pt x="17366" y="16097"/>
                  </a:lnTo>
                  <a:arcTo wR="8829" hR="21600" stAng="-1968331" swAng="-3220368"/>
                  <a:lnTo>
                    <a:pt x="10143" y="241"/>
                  </a:lnTo>
                  <a:arcTo wR="8829" hR="21600" stAng="-5611301" swAng="-5188699"/>
                  <a:close/>
                </a:path>
                <a:path fill="darkenLess" w="21600" h="21600">
                  <a:moveTo>
                    <a:pt x="0" y="21600"/>
                  </a:moveTo>
                  <a:arcTo wR="8829" hR="21600" stAng="10800000" swAng="5400000"/>
                  <a:lnTo>
                    <a:pt x="8829" y="0"/>
                  </a:lnTo>
                  <a:arcTo wR="8829" hR="21600" stAng="-5400000" swAng="211301"/>
                  <a:lnTo>
                    <a:pt x="10143" y="241"/>
                  </a:lnTo>
                  <a:arcTo wR="8829" hR="21600" stAng="-5611301" swAng="-5188699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Cuadro de texto 10"/>
            <p:cNvSpPr/>
            <p:nvPr/>
          </p:nvSpPr>
          <p:spPr>
            <a:xfrm>
              <a:off x="250920" y="1623600"/>
              <a:ext cx="8820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                                                                   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C-O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-SH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~S-Co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Elipse 11"/>
            <p:cNvSpPr/>
            <p:nvPr/>
          </p:nvSpPr>
          <p:spPr>
            <a:xfrm rot="19201800">
              <a:off x="1617480" y="16693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Línea 13"/>
            <p:cNvSpPr/>
            <p:nvPr/>
          </p:nvSpPr>
          <p:spPr>
            <a:xfrm>
              <a:off x="3778200" y="2053800"/>
              <a:ext cx="151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Elipse 14"/>
            <p:cNvSpPr/>
            <p:nvPr/>
          </p:nvSpPr>
          <p:spPr>
            <a:xfrm rot="19201800">
              <a:off x="6586200" y="169308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9" name="Text Box 23"/>
          <p:cNvSpPr/>
          <p:nvPr/>
        </p:nvSpPr>
        <p:spPr>
          <a:xfrm>
            <a:off x="447120" y="102708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Activación de los á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24"/>
          <p:cNvSpPr/>
          <p:nvPr/>
        </p:nvSpPr>
        <p:spPr>
          <a:xfrm>
            <a:off x="493560" y="2684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Re-síntesis de 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23 Grupo"/>
          <p:cNvGrpSpPr/>
          <p:nvPr/>
        </p:nvGrpSpPr>
        <p:grpSpPr>
          <a:xfrm>
            <a:off x="2876400" y="809640"/>
            <a:ext cx="4838760" cy="5977080"/>
            <a:chOff x="2876400" y="809640"/>
            <a:chExt cx="4838760" cy="5977080"/>
          </a:xfrm>
        </p:grpSpPr>
        <p:pic>
          <p:nvPicPr>
            <p:cNvPr id="842" name="Picture 4" descr="phosphatidicacidsynthesis-sp"/>
            <p:cNvPicPr/>
            <p:nvPr/>
          </p:nvPicPr>
          <p:blipFill>
            <a:blip r:embed="rId1"/>
            <a:stretch/>
          </p:blipFill>
          <p:spPr>
            <a:xfrm>
              <a:off x="2876400" y="809640"/>
              <a:ext cx="43005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22 Rectángulo"/>
            <p:cNvSpPr/>
            <p:nvPr/>
          </p:nvSpPr>
          <p:spPr>
            <a:xfrm>
              <a:off x="5214960" y="831600"/>
              <a:ext cx="2500200" cy="42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Group 35"/>
          <p:cNvGrpSpPr/>
          <p:nvPr/>
        </p:nvGrpSpPr>
        <p:grpSpPr>
          <a:xfrm>
            <a:off x="5924520" y="592200"/>
            <a:ext cx="3076560" cy="6122160"/>
            <a:chOff x="5924520" y="592200"/>
            <a:chExt cx="3076560" cy="6122160"/>
          </a:xfrm>
        </p:grpSpPr>
        <p:grpSp>
          <p:nvGrpSpPr>
            <p:cNvPr id="845" name="43 Grupo"/>
            <p:cNvGrpSpPr/>
            <p:nvPr/>
          </p:nvGrpSpPr>
          <p:grpSpPr>
            <a:xfrm>
              <a:off x="5924520" y="592200"/>
              <a:ext cx="3076560" cy="6122160"/>
              <a:chOff x="5924520" y="592200"/>
              <a:chExt cx="3076560" cy="6122160"/>
            </a:xfrm>
          </p:grpSpPr>
          <p:grpSp>
            <p:nvGrpSpPr>
              <p:cNvPr id="846" name="10 Grupo"/>
              <p:cNvGrpSpPr/>
              <p:nvPr/>
            </p:nvGrpSpPr>
            <p:grpSpPr>
              <a:xfrm>
                <a:off x="5924520" y="592200"/>
                <a:ext cx="3076560" cy="6122160"/>
                <a:chOff x="5924520" y="592200"/>
                <a:chExt cx="3076560" cy="6122160"/>
              </a:xfrm>
            </p:grpSpPr>
            <p:grpSp>
              <p:nvGrpSpPr>
                <p:cNvPr id="847" name="Group 10"/>
                <p:cNvGrpSpPr/>
                <p:nvPr/>
              </p:nvGrpSpPr>
              <p:grpSpPr>
                <a:xfrm>
                  <a:off x="5924520" y="592200"/>
                  <a:ext cx="2862360" cy="6122160"/>
                  <a:chOff x="5924520" y="592200"/>
                  <a:chExt cx="2862360" cy="6122160"/>
                </a:xfrm>
              </p:grpSpPr>
              <p:pic>
                <p:nvPicPr>
                  <p:cNvPr id="848" name="Picture 4" descr=""/>
                  <p:cNvPicPr/>
                  <p:nvPr/>
                </p:nvPicPr>
                <p:blipFill>
                  <a:blip r:embed="rId2"/>
                  <a:srcRect l="0" t="0" r="43521" b="0"/>
                  <a:stretch/>
                </p:blipFill>
                <p:spPr>
                  <a:xfrm>
                    <a:off x="6429240" y="592200"/>
                    <a:ext cx="23576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9" name="Text Box 5"/>
                  <p:cNvSpPr/>
                  <p:nvPr/>
                </p:nvSpPr>
                <p:spPr>
                  <a:xfrm>
                    <a:off x="6739560" y="2289240"/>
                    <a:ext cx="107676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. Fosfatid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fosfat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0" name="Text Box 6"/>
                  <p:cNvSpPr/>
                  <p:nvPr/>
                </p:nvSpPr>
                <p:spPr>
                  <a:xfrm>
                    <a:off x="5924520" y="4556160"/>
                    <a:ext cx="1330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il transfer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1" name="Text Box 8"/>
                  <p:cNvSpPr/>
                  <p:nvPr/>
                </p:nvSpPr>
                <p:spPr>
                  <a:xfrm>
                    <a:off x="6499080" y="6470640"/>
                    <a:ext cx="1513080" cy="24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Triacilglic</a:t>
                    </a: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er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52" name="36 Rectángulo"/>
                <p:cNvSpPr/>
                <p:nvPr/>
              </p:nvSpPr>
              <p:spPr>
                <a:xfrm>
                  <a:off x="8358120" y="2357280"/>
                  <a:ext cx="642960" cy="30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3" name="33 Arco"/>
              <p:cNvSpPr/>
              <p:nvPr/>
            </p:nvSpPr>
            <p:spPr>
              <a:xfrm flipH="1" rot="17668200">
                <a:off x="7975440" y="2328480"/>
                <a:ext cx="623880" cy="500040"/>
              </a:xfrm>
              <a:custGeom>
                <a:avLst/>
                <a:gdLst/>
                <a:ahLst/>
                <a:rect l="l" t="t" r="r" b="b"/>
                <a:pathLst>
                  <a:path stroke="0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  <a:lnTo>
                      <a:pt x="311944" y="250032"/>
                    </a:lnTo>
                    <a:lnTo>
                      <a:pt x="311944" y="0"/>
                    </a:lnTo>
                    <a:close/>
                  </a:path>
                  <a:path fill="none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</a:path>
                </a:pathLst>
              </a:custGeom>
              <a:noFill/>
              <a:ln w="38160">
                <a:solidFill>
                  <a:srgbClr val="be4b4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34 CuadroTexto"/>
              <p:cNvSpPr/>
              <p:nvPr/>
            </p:nvSpPr>
            <p:spPr>
              <a:xfrm>
                <a:off x="8002800" y="2786040"/>
                <a:ext cx="33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i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5" name="Cuadro de texto 10"/>
            <p:cNvSpPr/>
            <p:nvPr/>
          </p:nvSpPr>
          <p:spPr>
            <a:xfrm>
              <a:off x="7451640" y="4183200"/>
              <a:ext cx="1513080" cy="69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00" bIns="154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R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-CH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Text Box 10"/>
          <p:cNvSpPr/>
          <p:nvPr/>
        </p:nvSpPr>
        <p:spPr>
          <a:xfrm>
            <a:off x="-9360" y="11592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Otra vía de 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7" name="Group 20"/>
          <p:cNvGrpSpPr/>
          <p:nvPr/>
        </p:nvGrpSpPr>
        <p:grpSpPr>
          <a:xfrm>
            <a:off x="1450440" y="809640"/>
            <a:ext cx="2469240" cy="654120"/>
            <a:chOff x="1450440" y="809640"/>
            <a:chExt cx="2469240" cy="654120"/>
          </a:xfrm>
        </p:grpSpPr>
        <p:sp>
          <p:nvSpPr>
            <p:cNvPr id="858" name="Text Box 11"/>
            <p:cNvSpPr/>
            <p:nvPr/>
          </p:nvSpPr>
          <p:spPr>
            <a:xfrm>
              <a:off x="1450440" y="106488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U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2262240" y="124128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Text Box 13"/>
            <p:cNvSpPr/>
            <p:nvPr/>
          </p:nvSpPr>
          <p:spPr>
            <a:xfrm>
              <a:off x="2754360" y="8096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V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Group 21"/>
          <p:cNvGrpSpPr/>
          <p:nvPr/>
        </p:nvGrpSpPr>
        <p:grpSpPr>
          <a:xfrm>
            <a:off x="1259640" y="2465280"/>
            <a:ext cx="2875680" cy="842040"/>
            <a:chOff x="1259640" y="2465280"/>
            <a:chExt cx="2875680" cy="842040"/>
          </a:xfrm>
        </p:grpSpPr>
        <p:sp>
          <p:nvSpPr>
            <p:cNvPr id="862" name="Text Box 14"/>
            <p:cNvSpPr/>
            <p:nvPr/>
          </p:nvSpPr>
          <p:spPr>
            <a:xfrm>
              <a:off x="1259640" y="270324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Line 15"/>
            <p:cNvSpPr/>
            <p:nvPr/>
          </p:nvSpPr>
          <p:spPr>
            <a:xfrm>
              <a:off x="2624040" y="289692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Text Box 16"/>
            <p:cNvSpPr/>
            <p:nvPr/>
          </p:nvSpPr>
          <p:spPr>
            <a:xfrm>
              <a:off x="2973960" y="246528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GQ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7"/>
            <p:cNvSpPr/>
            <p:nvPr/>
          </p:nvSpPr>
          <p:spPr>
            <a:xfrm>
              <a:off x="2661840" y="2970000"/>
              <a:ext cx="5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Text Box 18"/>
            <p:cNvSpPr/>
            <p:nvPr/>
          </p:nvSpPr>
          <p:spPr>
            <a:xfrm>
              <a:off x="3378600" y="297000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Arc 19"/>
            <p:cNvSpPr/>
            <p:nvPr/>
          </p:nvSpPr>
          <p:spPr>
            <a:xfrm>
              <a:off x="2833560" y="2898360"/>
              <a:ext cx="870120" cy="2476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fill="none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</a:path>
                <a:path stroke="0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  <a:lnTo>
                    <a:pt x="18341" y="21600"/>
                  </a:lnTo>
                  <a:lnTo>
                    <a:pt x="0" y="1019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8" name="Oval 25"/>
          <p:cNvSpPr/>
          <p:nvPr/>
        </p:nvSpPr>
        <p:spPr>
          <a:xfrm>
            <a:off x="3343320" y="5562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857760" y="2428920"/>
            <a:ext cx="150012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Cuadro de texto 10"/>
          <p:cNvSpPr/>
          <p:nvPr/>
        </p:nvSpPr>
        <p:spPr>
          <a:xfrm>
            <a:off x="2214720" y="3429000"/>
            <a:ext cx="185724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Acil-Co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Cuadro de texto 10"/>
          <p:cNvSpPr/>
          <p:nvPr/>
        </p:nvSpPr>
        <p:spPr>
          <a:xfrm>
            <a:off x="2214720" y="4898880"/>
            <a:ext cx="185724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Acil-Co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2" name="Picture 7" descr="trigi+1"/>
          <p:cNvPicPr/>
          <p:nvPr/>
        </p:nvPicPr>
        <p:blipFill>
          <a:blip r:embed="rId3"/>
          <a:srcRect l="2986" t="6176" r="73181" b="56766"/>
          <a:stretch/>
        </p:blipFill>
        <p:spPr>
          <a:xfrm>
            <a:off x="71280" y="2286000"/>
            <a:ext cx="11430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873" name="45 Conector recto de flecha"/>
          <p:cNvCxnSpPr/>
          <p:nvPr/>
        </p:nvCxnSpPr>
        <p:spPr>
          <a:xfrm flipV="1">
            <a:off x="4932000" y="1366560"/>
            <a:ext cx="2283480" cy="4294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874" name="Oval 25"/>
          <p:cNvSpPr/>
          <p:nvPr/>
        </p:nvSpPr>
        <p:spPr>
          <a:xfrm>
            <a:off x="6300720" y="5013360"/>
            <a:ext cx="194472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685440" y="157140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          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Cuadro de texto 2"/>
          <p:cNvSpPr/>
          <p:nvPr/>
        </p:nvSpPr>
        <p:spPr>
          <a:xfrm>
            <a:off x="755640" y="4762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estino de los lípidos absorbidos en el intes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Elipse 5"/>
          <p:cNvSpPr/>
          <p:nvPr/>
        </p:nvSpPr>
        <p:spPr>
          <a:xfrm>
            <a:off x="5262480" y="457848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Elipse 6"/>
          <p:cNvSpPr/>
          <p:nvPr/>
        </p:nvSpPr>
        <p:spPr>
          <a:xfrm>
            <a:off x="2023920" y="227016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Línea 4"/>
          <p:cNvSpPr/>
          <p:nvPr/>
        </p:nvSpPr>
        <p:spPr>
          <a:xfrm>
            <a:off x="3422520" y="200664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Línea 5"/>
          <p:cNvSpPr/>
          <p:nvPr/>
        </p:nvSpPr>
        <p:spPr>
          <a:xfrm>
            <a:off x="4284720" y="323064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Línea 6"/>
          <p:cNvSpPr/>
          <p:nvPr/>
        </p:nvSpPr>
        <p:spPr>
          <a:xfrm>
            <a:off x="2023920" y="416736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Línea 4"/>
          <p:cNvSpPr/>
          <p:nvPr/>
        </p:nvSpPr>
        <p:spPr>
          <a:xfrm>
            <a:off x="5435640" y="533556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Línea 7"/>
          <p:cNvSpPr/>
          <p:nvPr/>
        </p:nvSpPr>
        <p:spPr>
          <a:xfrm>
            <a:off x="3247920" y="533556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Cuadro de texto 11"/>
          <p:cNvSpPr/>
          <p:nvPr/>
        </p:nvSpPr>
        <p:spPr>
          <a:xfrm>
            <a:off x="6012000" y="3027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Cuadro de texto 13"/>
          <p:cNvSpPr/>
          <p:nvPr/>
        </p:nvSpPr>
        <p:spPr>
          <a:xfrm>
            <a:off x="6659640" y="5100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6"/>
          <p:cNvSpPr/>
          <p:nvPr/>
        </p:nvSpPr>
        <p:spPr>
          <a:xfrm>
            <a:off x="172080" y="195120"/>
            <a:ext cx="88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Transporte de TG y otros lípidos hacia la circu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8"/>
          <p:cNvGrpSpPr/>
          <p:nvPr/>
        </p:nvGrpSpPr>
        <p:grpSpPr>
          <a:xfrm>
            <a:off x="1663560" y="907920"/>
            <a:ext cx="5788080" cy="5905800"/>
            <a:chOff x="1663560" y="907920"/>
            <a:chExt cx="5788080" cy="5905800"/>
          </a:xfrm>
        </p:grpSpPr>
        <p:pic>
          <p:nvPicPr>
            <p:cNvPr id="888" name="Picture 5" descr="figure_20_20_labeled"/>
            <p:cNvPicPr/>
            <p:nvPr/>
          </p:nvPicPr>
          <p:blipFill>
            <a:blip r:embed="rId1"/>
            <a:stretch/>
          </p:blipFill>
          <p:spPr>
            <a:xfrm>
              <a:off x="1663560" y="907920"/>
              <a:ext cx="5788080" cy="59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Rectangle 7"/>
            <p:cNvSpPr/>
            <p:nvPr/>
          </p:nvSpPr>
          <p:spPr>
            <a:xfrm>
              <a:off x="5003640" y="5013360"/>
              <a:ext cx="648000" cy="360360"/>
            </a:xfrm>
            <a:prstGeom prst="rect">
              <a:avLst/>
            </a:prstGeom>
            <a:solidFill>
              <a:srgbClr val="81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Text Box 9"/>
          <p:cNvSpPr/>
          <p:nvPr/>
        </p:nvSpPr>
        <p:spPr>
          <a:xfrm>
            <a:off x="5219640" y="4005360"/>
            <a:ext cx="1513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  <a:ea typeface="Arial"/>
              </a:rPr>
              <a:t>Quilomicr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611280" y="1341360"/>
            <a:ext cx="770400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c0504d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1 CuadroTexto"/>
          <p:cNvSpPr/>
          <p:nvPr/>
        </p:nvSpPr>
        <p:spPr>
          <a:xfrm>
            <a:off x="571680" y="642960"/>
            <a:ext cx="8321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</a:rPr>
              <a:t>ácidos grasos saturado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 varían en composición de 4 a 26 átomos de carbo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9640" y="1643040"/>
          <a:ext cx="8175600" cy="4425840"/>
        </p:xfrm>
        <a:graphic>
          <a:graphicData uri="http://schemas.openxmlformats.org/drawingml/2006/table">
            <a:tbl>
              <a:tblPr/>
              <a:tblGrid>
                <a:gridCol w="1594080"/>
                <a:gridCol w="1492200"/>
                <a:gridCol w="1490760"/>
                <a:gridCol w="3598560"/>
              </a:tblGrid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í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í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áp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áu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o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rís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tr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lmí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steá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raquíd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icos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7" name="7 CuadroTexto"/>
          <p:cNvSpPr/>
          <p:nvPr/>
        </p:nvSpPr>
        <p:spPr>
          <a:xfrm>
            <a:off x="1523520" y="614376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Ácidos grasos saturados presentes en la mayoría de los ali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1 CuadroTexto"/>
          <p:cNvSpPr/>
          <p:nvPr/>
        </p:nvSpPr>
        <p:spPr>
          <a:xfrm>
            <a:off x="538200" y="698400"/>
            <a:ext cx="446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insaturado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 poseen dobles ligaduras en su cadena y tienen gran actividad química puesto que se hidrolizan y oxidan fácilmen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siguientes son los ácidos grasos insaturados más comunes en 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limentos de origen vegetal y pescados</a:t>
            </a:r>
            <a:r>
              <a:rPr b="0" lang="es-ES" sz="2000" spc="-1" strike="noStrike">
                <a:solidFill>
                  <a:srgbClr val="0099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714240" y="3279600"/>
          <a:ext cx="7858440" cy="3389400"/>
        </p:xfrm>
        <a:graphic>
          <a:graphicData uri="http://schemas.openxmlformats.org/drawingml/2006/table">
            <a:tbl>
              <a:tblPr/>
              <a:tblGrid>
                <a:gridCol w="1143000"/>
                <a:gridCol w="2786040"/>
                <a:gridCol w="1071720"/>
                <a:gridCol w="2857680"/>
              </a:tblGrid>
              <a:tr h="384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87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-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1ω9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-octadec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573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-d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2ω6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-octadecad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0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é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:15-tr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3ω3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,15-octadecatr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60" name="Picture 31" descr="acs grasos insaturados"/>
          <p:cNvPicPr/>
          <p:nvPr/>
        </p:nvPicPr>
        <p:blipFill>
          <a:blip r:embed="rId1"/>
          <a:stretch/>
        </p:blipFill>
        <p:spPr>
          <a:xfrm>
            <a:off x="5221440" y="631800"/>
            <a:ext cx="33112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1 CuadroTexto"/>
          <p:cNvSpPr/>
          <p:nvPr/>
        </p:nvSpPr>
        <p:spPr>
          <a:xfrm>
            <a:off x="108000" y="1138320"/>
            <a:ext cx="23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No 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2 Abrir llave"/>
          <p:cNvSpPr/>
          <p:nvPr/>
        </p:nvSpPr>
        <p:spPr>
          <a:xfrm>
            <a:off x="2193840" y="754200"/>
            <a:ext cx="217440" cy="1379520"/>
          </a:xfrm>
          <a:custGeom>
            <a:avLst/>
            <a:gdLst>
              <a:gd name="textAreaLeft" fmla="*/ 138960 w 217440"/>
              <a:gd name="textAreaRight" fmla="*/ 217800 w 217440"/>
              <a:gd name="textAreaTop" fmla="*/ 4680 h 1379520"/>
              <a:gd name="textAreaBottom" fmla="*/ 137484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551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4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3 CuadroTexto"/>
          <p:cNvSpPr/>
          <p:nvPr/>
        </p:nvSpPr>
        <p:spPr>
          <a:xfrm>
            <a:off x="2371680" y="6922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Vitaminas liposolubles (A, D, E, K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Esteroides: colesterol, ácidos biliares, hormonas esteroideas como los estrógenos, la progesterona, la testoster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13"/>
          <p:cNvGrpSpPr/>
          <p:nvPr/>
        </p:nvGrpSpPr>
        <p:grpSpPr>
          <a:xfrm>
            <a:off x="5940360" y="476280"/>
            <a:ext cx="2592360" cy="2388240"/>
            <a:chOff x="5940360" y="476280"/>
            <a:chExt cx="2592360" cy="2388240"/>
          </a:xfrm>
        </p:grpSpPr>
        <p:pic>
          <p:nvPicPr>
            <p:cNvPr id="565" name="Picture 2" descr="17 Estructura CHO"/>
            <p:cNvPicPr/>
            <p:nvPr/>
          </p:nvPicPr>
          <p:blipFill>
            <a:blip r:embed="rId1">
              <a:grayscl/>
              <a:lum contrast="8000"/>
            </a:blip>
            <a:stretch/>
          </p:blipFill>
          <p:spPr>
            <a:xfrm>
              <a:off x="5940360" y="476280"/>
              <a:ext cx="2592360" cy="21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5 CuadroTexto"/>
            <p:cNvSpPr/>
            <p:nvPr/>
          </p:nvSpPr>
          <p:spPr>
            <a:xfrm>
              <a:off x="6802200" y="249624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7" name="Picture 16" descr="contenido de colesterol en los alimentos"/>
          <p:cNvPicPr/>
          <p:nvPr/>
        </p:nvPicPr>
        <p:blipFill>
          <a:blip r:embed="rId2"/>
          <a:stretch/>
        </p:blipFill>
        <p:spPr>
          <a:xfrm>
            <a:off x="611280" y="2530440"/>
            <a:ext cx="82818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76000" y="836280"/>
            <a:ext cx="60958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Calibri"/>
              </a:rPr>
              <a:t>Funciones de los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Fuente de reserva energética (Triglicérid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Componentes de membranas (Fosfolípidos y C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</a:rPr>
              <a:t>Reguladores Biológicos (hormonas esteroide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a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a808"/>
                </a:solidFill>
                <a:latin typeface="Calibri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1 Rectángulo"/>
          <p:cNvSpPr/>
          <p:nvPr/>
        </p:nvSpPr>
        <p:spPr>
          <a:xfrm>
            <a:off x="179280" y="115920"/>
            <a:ext cx="8640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Arial"/>
              </a:rPr>
              <a:t>METABOLISMO LIPID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sí, los lípido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- 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- Utilizados para la síntesis de constituyent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46c0a"/>
                </a:solidFill>
                <a:latin typeface="Arial Rounded MT Bold"/>
                <a:ea typeface="Arial"/>
              </a:rPr>
              <a:t>- 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2 CuadroTexto"/>
          <p:cNvSpPr/>
          <p:nvPr/>
        </p:nvSpPr>
        <p:spPr>
          <a:xfrm>
            <a:off x="324000" y="3003480"/>
            <a:ext cx="48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lípidos presentes en los alimentos se encuentran generalmente en mayor concentración en aceites, manteca, yema de huevo. En general están presentes como triglicéridos (grasas neutras), ácidos grasos y sus derivados, fosfolípidos, glucolípidos, esteroles y vitaminas liposolub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H1104301-Fats-SPL"/>
          <p:cNvPicPr/>
          <p:nvPr/>
        </p:nvPicPr>
        <p:blipFill>
          <a:blip r:embed="rId1"/>
          <a:stretch/>
        </p:blipFill>
        <p:spPr>
          <a:xfrm>
            <a:off x="5508720" y="2781360"/>
            <a:ext cx="28033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Imagen 3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954680" cy="32864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trigi+1"/>
          <p:cNvPicPr/>
          <p:nvPr/>
        </p:nvPicPr>
        <p:blipFill>
          <a:blip r:embed="rId2"/>
          <a:stretch/>
        </p:blipFill>
        <p:spPr>
          <a:xfrm>
            <a:off x="5214960" y="100008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"/>
          <p:cNvPicPr/>
          <p:nvPr/>
        </p:nvPicPr>
        <p:blipFill>
          <a:blip r:embed="rId3"/>
          <a:stretch/>
        </p:blipFill>
        <p:spPr>
          <a:xfrm>
            <a:off x="5670720" y="4500720"/>
            <a:ext cx="27590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Imagen 2" descr=""/>
          <p:cNvPicPr/>
          <p:nvPr/>
        </p:nvPicPr>
        <p:blipFill>
          <a:blip r:embed="rId1"/>
          <a:stretch/>
        </p:blipFill>
        <p:spPr>
          <a:xfrm>
            <a:off x="461880" y="1071720"/>
            <a:ext cx="8253360" cy="5364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Ana Anzulovich</cp:lastModifiedBy>
  <dcterms:modified xsi:type="dcterms:W3CDTF">2015-09-14T23:49:46Z</dcterms:modified>
  <cp:revision>120</cp:revision>
  <dc:subject/>
  <dc:title>Presentación de PowerPoint</dc:title>
</cp:coreProperties>
</file>